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57D4-0A36-4BAF-A699-A6FDAADA9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E038-0EE8-4289-BE67-6C907FCCA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FE53-B70E-4B29-AE68-E3B0CC741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4E01-46D9-4609-BC94-33A96CF3D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DD43-A443-42E7-BAD8-4D6315533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E3F9-421F-4906-9A00-B6574F2B9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FA42-ABAB-413D-9964-E651EAE0D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8FD9-67A3-4450-BD41-279A18099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3423-4097-4578-A1D4-1EE29CCA6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8647-952C-412A-BC77-A1D341F8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3233-84E2-4C86-9D20-F9A31139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E0D7-9302-47C7-BCE1-A39D131E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AFEA7-3791-4061-9B82-0DE6AAF1E4A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G:\HICE事業\ともいき教材\ファシリテーション\0_表紙.JPG"/>
          <p:cNvPicPr/>
          <p:nvPr/>
        </p:nvPicPr>
        <p:blipFill>
          <a:blip r:embed="rId1"/>
          <a:stretch/>
        </p:blipFill>
        <p:spPr>
          <a:xfrm>
            <a:off x="-304920" y="152280"/>
            <a:ext cx="97538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例）赤十字の旗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Users\matsuoka\Desktop\180px-Flag_of_the_Red_Crescent_svg.png"/>
          <p:cNvPicPr/>
          <p:nvPr/>
        </p:nvPicPr>
        <p:blipFill>
          <a:blip r:embed="rId1"/>
          <a:stretch/>
        </p:blipFill>
        <p:spPr>
          <a:xfrm>
            <a:off x="5000760" y="1643040"/>
            <a:ext cx="3439800" cy="2292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C:\Users\matsuoka\Desktop\180px-Flag_of_the_Red_Cross_svg.png"/>
          <p:cNvPicPr/>
          <p:nvPr/>
        </p:nvPicPr>
        <p:blipFill>
          <a:blip r:embed="rId2"/>
          <a:stretch/>
        </p:blipFill>
        <p:spPr>
          <a:xfrm>
            <a:off x="857160" y="1547640"/>
            <a:ext cx="3286080" cy="2190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C:\Users\matsuoka\Desktop\180px-Flag_of_the_Red_Crystal_svg.png"/>
          <p:cNvPicPr/>
          <p:nvPr/>
        </p:nvPicPr>
        <p:blipFill>
          <a:blip r:embed="rId3"/>
          <a:stretch/>
        </p:blipFill>
        <p:spPr>
          <a:xfrm>
            <a:off x="5000760" y="4000680"/>
            <a:ext cx="3357360" cy="2238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C:\Users\matsuoka\Desktop\180px-Red_Star_of_David_svg.png"/>
          <p:cNvPicPr/>
          <p:nvPr/>
        </p:nvPicPr>
        <p:blipFill>
          <a:blip r:embed="rId4"/>
          <a:stretch/>
        </p:blipFill>
        <p:spPr>
          <a:xfrm>
            <a:off x="963720" y="4071960"/>
            <a:ext cx="303696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G:\HICE事業\ともいき教材\ファシリテーション\16_避難地標識.JPG"/>
          <p:cNvPicPr/>
          <p:nvPr/>
        </p:nvPicPr>
        <p:blipFill>
          <a:blip r:embed="rId1"/>
          <a:stretch/>
        </p:blipFill>
        <p:spPr>
          <a:xfrm>
            <a:off x="1709640" y="1033560"/>
            <a:ext cx="572472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津波避難ビル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J:\DCIM\111_FUJI\DSCF1704.JPG"/>
          <p:cNvPicPr/>
          <p:nvPr/>
        </p:nvPicPr>
        <p:blipFill>
          <a:blip r:embed="rId1"/>
          <a:stretch/>
        </p:blipFill>
        <p:spPr>
          <a:xfrm>
            <a:off x="1428840" y="1357200"/>
            <a:ext cx="658980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G:\HICE事業\ともいき教材\ファシリテーション\1_目的.JPG"/>
          <p:cNvPicPr/>
          <p:nvPr/>
        </p:nvPicPr>
        <p:blipFill>
          <a:blip r:embed="rId1"/>
          <a:stretch/>
        </p:blipFill>
        <p:spPr>
          <a:xfrm>
            <a:off x="-304920" y="152280"/>
            <a:ext cx="97538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G:\HICE事業\ともいき教材\ファシリテーション\3_おおよそ.JPG"/>
          <p:cNvPicPr/>
          <p:nvPr/>
        </p:nvPicPr>
        <p:blipFill>
          <a:blip r:embed="rId1"/>
          <a:stretch/>
        </p:blipFill>
        <p:spPr>
          <a:xfrm>
            <a:off x="-304920" y="152280"/>
            <a:ext cx="97538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G:\HICE事業\ともいき教材\ファシリテーション\5_カタストロフォイボード.jpg"/>
          <p:cNvPicPr/>
          <p:nvPr/>
        </p:nvPicPr>
        <p:blipFill>
          <a:blip r:embed="rId1"/>
          <a:stretch/>
        </p:blipFill>
        <p:spPr>
          <a:xfrm>
            <a:off x="-773280" y="-351000"/>
            <a:ext cx="10692000" cy="756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G:\HICE事業\ともいき教材\ファシリテーション\15_まとめ.JPG"/>
          <p:cNvPicPr/>
          <p:nvPr/>
        </p:nvPicPr>
        <p:blipFill>
          <a:blip r:embed="rId1"/>
          <a:stretch/>
        </p:blipFill>
        <p:spPr>
          <a:xfrm>
            <a:off x="-304920" y="152280"/>
            <a:ext cx="97538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0040" y="55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地下駐車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6" descr="J:\DCIM\111_FUJI\DSCF1702.JPG"/>
          <p:cNvPicPr/>
          <p:nvPr/>
        </p:nvPicPr>
        <p:blipFill>
          <a:blip r:embed="rId1"/>
          <a:stretch/>
        </p:blipFill>
        <p:spPr>
          <a:xfrm>
            <a:off x="1071720" y="357120"/>
            <a:ext cx="700056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G:\HICE事業\ともいき教材\ファシリテーション\13_横浜表示.jpg"/>
          <p:cNvPicPr/>
          <p:nvPr/>
        </p:nvPicPr>
        <p:blipFill>
          <a:blip r:embed="rId1"/>
          <a:stretch/>
        </p:blipFill>
        <p:spPr>
          <a:xfrm>
            <a:off x="-773280" y="-351000"/>
            <a:ext cx="10692000" cy="756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「やさしい日本語」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「危険」　→　「危ない」（あぶない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「警戒する」　→　「気をつける」（きをつける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「確認する」　→　「よく見る」（よくみる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G:\HICE事業\ともいき教材\ファシリテーション\17_非常口.gif"/>
          <p:cNvPicPr/>
          <p:nvPr/>
        </p:nvPicPr>
        <p:blipFill>
          <a:blip r:embed="rId1"/>
          <a:stretch/>
        </p:blipFill>
        <p:spPr>
          <a:xfrm>
            <a:off x="2428920" y="1523880"/>
            <a:ext cx="42861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07:03:55Z</dcterms:created>
  <dc:creator>matsuoka</dc:creator>
  <dc:description/>
  <dc:language>en-US</dc:language>
  <cp:lastModifiedBy>matsuoka</cp:lastModifiedBy>
  <dcterms:modified xsi:type="dcterms:W3CDTF">2009-10-08T09:27:59Z</dcterms:modified>
  <cp:revision>11</cp:revision>
  <dc:subject/>
  <dc:title>スライド 1</dc:title>
</cp:coreProperties>
</file>